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4F1-3AE7-409F-9E52-D23D9264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78A-235D-479B-9B38-78FC8C58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2E0-D507-49F6-A257-CF8BC9F2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D9C-49B0-4E97-9361-92478419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99D-FC47-45F1-B25B-80B81909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875A-BD81-4369-ACF0-6DD8183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D3F0-F10F-48B6-A0B2-AD737B1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741-7BDA-48EC-92BF-A09C286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8E1-F5A8-4A18-92B0-A83FCB4A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4C1-B40B-471F-ACF7-554F4F6C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83E-D99A-4516-9C43-2A0E479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400-91F1-4038-9E5D-BDD791F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BFC-02E2-4C4E-A3F3-A6E4012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B4B-AB82-440D-88D3-1325FAE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5F0A-6A25-4384-BE88-8DC9ED8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1FD-2A6A-4D3B-8F09-CAEAA6D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2B8-C400-4177-A694-BEAF2545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E4A7-4E7F-430A-A631-AA13F80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9B59-450C-45EF-AB99-B89C59C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A82C-932C-44A6-95C6-ED787D46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086D-9DC6-488D-9003-A1A301E6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5DF5-7DBB-4067-95EA-404160C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4A7-642B-4943-A2F7-49DF16D3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2127-2553-436C-B44F-C00B8531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11F6-91B4-4977-9372-280B6AC9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257D-81D5-42E3-8BD2-0564C163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388B-6F96-44BA-B92D-96E6E61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6F87-13B0-4D04-9FDA-7C7FA8B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864F-61A4-493C-980E-DB38480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59D2-7127-4F6F-92A7-0A417B1E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8124-6280-44CF-8FA1-D5A36660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555D-F74A-425E-AB05-759D806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B778-E3EB-4A25-A9A0-30A7591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1E1-3BB6-4E14-AF47-BE47C69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6B60-DAF3-4136-9EFC-D44FDFD7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C2C6-B53B-410D-9BC0-7959D661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8BAA-5EB7-4854-A18D-2B33566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5F3F-642F-4DF7-8DF1-502E294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E27C-54BB-4E6B-96CE-A457631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4503-A9A2-48D9-85ED-C81B481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A8EB-F7AA-4BD3-8FE0-0AF88B3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DBC1-C9B2-483F-B0AB-AE9B1A43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0891-B497-41E0-9997-E96B9BB4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BFF2-317D-44EC-A84F-7E99A055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E82-0F7F-4F9E-AECE-2082DFF5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8230-0131-4615-A64B-A1FE8FE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9FC2-68C8-4F7F-8A80-AC68050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1CC7-3A11-4F65-8753-DD2A5B6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CB96-9F08-4631-97E7-A911F9B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806A-5D2E-443F-BA97-0505727D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222C-2616-465A-AE8C-B06BEA5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6FD5-7CC4-4015-BDDC-3626371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95FEF-00C4-49D7-ADDB-F444625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C218-C455-4323-92A8-46F63430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010F-757B-4A0D-B6E9-5D59413B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B26-2709-488F-9B74-BFCD3CC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1570-1C80-43CC-B0E4-7D2EE60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1583-3A8D-4E75-A25E-795A1B9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A867-6408-4B98-BA76-049BF55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E4CCE-7500-43AC-9AA1-890687D5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595A-F490-4216-88F2-9E1A7870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0783-6F04-434F-A92D-5D1CFDD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AA92-BF7A-4684-BCB9-D15E2AB2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01C7-2DFF-4278-98DF-58E3C339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4B6F1-E4BD-4FC2-B844-DF751FB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E3A2-65D4-47C0-A14D-B551E8B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C7E-5CD7-42CB-9573-5F64DE2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123F-B1D5-43AA-B25A-EFBFCEF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B7442-D407-45A8-8048-695AAC35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8C69-82F1-42EB-BEC0-90EF6C69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B302-95C4-40A2-9935-0752B2D4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6C88-0DA4-4E29-85F3-52EB124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A9C70-CBC7-49D8-8403-8C3B6CF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EB32-9A7E-4CCD-A2EA-3339D72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4502-4A31-4578-95A3-485963F1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87C7-E948-4093-831F-FBE25C1D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AF18-7D86-4472-A0E9-A7715D2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8FE-8F5A-4E69-9473-C53B117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77E4-DBFC-4E95-A46F-640711C3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586F-CC02-4CFE-ADBF-C0491E3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7E36-F278-44FC-B45E-7D08560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0280-77D8-48CF-ADD7-15FE5617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B1A2A-C8F4-414F-8BCE-0519BEBC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A7CB-A930-410B-8A8C-5B943DC5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F346-1718-4227-9C39-84CC332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91EB8-0F19-4B77-8D17-3998026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D2EB6-7A63-4BB4-9868-BFA5C4C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17F57-A4AF-478F-8E9C-C0E04BE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318-726E-45C1-A856-6A61A09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9A6C9-239E-4551-A31B-48C734E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F5A8-FB18-41DD-B39A-46D02DB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18577-27EA-4DCB-BA98-DC37929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45CA8-AEAB-47C0-9A84-0BAA5D7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6B92A-80DE-4E3D-8FEA-79632946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B145-04E1-44AA-A325-3AD5389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58DED-7F49-4EBA-99B9-FB8B9B7D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9A0-7F8B-453C-BBB3-71FC3650764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3EDC-211E-4FE9-8F6C-E50CB9AD620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98EE-759B-41B3-A236-72ECB1E0262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BF4-FA00-4D69-97BE-A6D90FFF219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125-B70B-43C5-9200-CBC44011884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E079-C92E-4A03-B7EC-40FBF38BE6E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6FD5-80A7-43E0-B1EC-52C3B77E8AC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196-4072-4992-A7D2-39F72CB864A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jpg&amp;imgrefurl=http://www.evisu.com/blog/tag/jeans/&amp;h=800&amp;w=800&amp;sz=84&amp;hl=en&amp;start=1&amp;sig2=9UphbXiX5FwFngpmIJLyVA&amp;um=1&amp;usg=__aBTQot5B1bP-Rc2ZDuKU9anQndI=&amp;tbnid=tRkG5dQXA7VlXM:&amp;tbnh=143&amp;tbnw=143&amp;ei=OO-zSPidNYrQetSZ_JUI&amp;prev=/images?q=daruma+doll&amp;um=1&amp;hl=en&amp;rlz=1T4ADBF_enUS221US222&amp;sa=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gadilla.com/wp-content/uploads/2007/05/daruma.jpg&amp;imgrefurl=http://www.blogadilla.com/tag/what-is-it/&amp;h=880&amp;w=732&amp;sz=89&amp;hl=en&amp;start=2&amp;sig2=9tUCMlYix1qR-ePmtmuLIA&amp;um=1&amp;usg=__aDwN9HB-a5dD-80LoL7UyAGDqF8=&amp;tbnid=YfXzhIX-4Y_3AM:&amp;tbnh=146&amp;tbnw=121&amp;ei=OO-zSPidNYrQetSZ_JUI&amp;prev=/images?q=daruma+doll&amp;um=1&amp;hl=en&amp;rlz=1T4ADBF_enUS221US222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1.ocn.ne.jp/~popyah/yamanashi/oyako.jpg&amp;imgrefurl=http://darumadollmuseum.blogspot.com/2004_12_01_archive.html&amp;h=375&amp;w=500&amp;sz=26&amp;hl=en&amp;start=33&amp;sig2=lNzSjYhJ8olXekqqGsv_bw&amp;um=1&amp;usg=__5z9Y_JB6QZcPFGuuMu_SMre1x7c=&amp;tbnid=pcxJ2y-8ebq7EM:&amp;tbnh=98&amp;tbnw=130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ighlightskids.com/Stories/NonFiction/images/NF0100_darumaSan.jpg&amp;imgrefurl=http://www.highlightskids.com/Stories/NonFiction/NF0100_darumaSan.asp&amp;h=359&amp;w=300&amp;sz=26&amp;hl=en&amp;start=34&amp;sig2=61fsZ85LqeJ--HJWd7bGsQ&amp;um=1&amp;usg=__RB4VR5dEMMcTSYjQbqlRlwDTiLM=&amp;tbnid=f7tT3M3FwJogOM:&amp;tbnh=121&amp;tbnw=10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sare.com/kokeshi/abom-ph/abom-p02-02.jpg&amp;imgrefurl=http://darumadollmuseum.blogspot.com/2005/03/kokeshi-2.html&amp;h=390&amp;w=520&amp;sz=31&amp;hl=en&amp;start=38&amp;sig2=FLDQ6ehYovcjxveH7skg1w&amp;um=1&amp;usg=__-7XF_epgLAX9OHCAbRjkliU-Goo=&amp;tbnid=Jqvx4UryG7GHCM:&amp;tbnh=98&amp;tbnw=13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RUMA DOLL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-1973880"/>
            <a:ext cx="640080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95959"/>
              </a:solidFill>
              <a:latin typeface="Garamond"/>
            </a:endParaRPr>
          </a:p>
        </p:txBody>
      </p:sp>
      <p:pic>
        <p:nvPicPr>
          <p:cNvPr id="346" name="Picture 2" descr="http://tbn0.google.com/images?q=tbn:tRkG5dQXA7VlXM:http://www.evisu.com/blog/wp-content/uploads/2007/09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5440" y="2438280"/>
            <a:ext cx="32731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040" y="198108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 Japanese good luck symbol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t stands for the spirit of courage and determination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Constructed as a folk art doll so that no matter how it is tipped, it reverts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to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the upright position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ften given when an individual starts something new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nvites personal goal setting; paint one eye when a goal is set and the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ther when it has been met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What is your goal for this course?  Think, decide, and record it on the back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f your “doll”.  Color in one ey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tbn0.google.com/images?q=tbn:YfXzhIX-4Y_3AM:http://www.blogadilla.com/wp-content/uploads/2007/05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33440"/>
            <a:ext cx="3357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tbn0.google.com/images?q=tbn:pcxJ2y-8ebq7EM:http://www11.ocn.ne.jp/~popyah/yamanashi/oya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1819440"/>
            <a:ext cx="4270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tbn0.google.com/images?q=tbn:f7tT3M3FwJogOM:http://www.highlightskids.com/Stories/NonFiction/images/NF0100_darumaS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25905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tbn0.google.com/images?q=tbn:Jqvx4UryG7GHCM:http://www.yosare.com/kokeshi/abom-ph/abom-p02-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3280" y="1600200"/>
            <a:ext cx="3997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http://tbn0.google.com/images?q=tbn:eyaYhWZZN2mzkM:http://www.asahi-net.or.jp/~um8d-tmzk/matukawa1.jpg"/>
          <p:cNvPicPr/>
          <p:nvPr/>
        </p:nvPicPr>
        <p:blipFill>
          <a:blip r:embed="rId1"/>
          <a:stretch/>
        </p:blipFill>
        <p:spPr>
          <a:xfrm>
            <a:off x="2666880" y="99072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Daruma doll"/>
          <p:cNvPicPr/>
          <p:nvPr/>
        </p:nvPicPr>
        <p:blipFill>
          <a:blip r:embed="rId1"/>
          <a:stretch/>
        </p:blipFill>
        <p:spPr>
          <a:xfrm>
            <a:off x="2495520" y="1217520"/>
            <a:ext cx="41529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523880" y="129528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i ni! fu n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undan Daruma 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kai zukin kaburi sunmait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 times you may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igh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rise up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1:54:58Z</dcterms:created>
  <dc:creator>HP Authorized Customer</dc:creator>
  <dc:description/>
  <dc:language>en-US</dc:language>
  <cp:lastModifiedBy>spalding</cp:lastModifiedBy>
  <dcterms:modified xsi:type="dcterms:W3CDTF">2011-08-23T13:36:48Z</dcterms:modified>
  <cp:revision>4</cp:revision>
  <dc:subject/>
  <dc:title>Daruma Dolls</dc:title>
</cp:coreProperties>
</file>